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5D7-F753-4BC7-8761-5EB3AA0A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3EA-CA6C-4385-91A9-4DB8E929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F6F-5C20-4AE4-B894-1C1057BE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FB6-AA87-4FD0-BA9E-AE117D39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6834B-591D-4531-B1CC-A500A7C9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BA448-9BD1-4ECD-BB12-9A9F717A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83A2E-15A3-4E33-BBF9-AFD9590E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19BA3-ABB4-4F36-A1DD-6455CA60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548AE-5FD4-40D5-84D9-43772D0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F9DFC-3B08-4906-BD27-9D159DC5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B3DB5-5949-4B89-9825-D39C4E5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BFD-FCFE-44F5-9A81-68D11B4D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3F338-0F22-4FF6-BBC9-A6F43BA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243D3-A43C-4BB1-A33E-0E6136D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AA8D4-29C0-4D08-81C2-15BEB11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E80C7-47B9-44BD-9DBB-8F565E18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878EB-7472-45CB-9422-2524EB92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376-CF21-445D-A2B8-8FDCB259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55C-EC15-410C-A6BD-424CE62E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862-5D43-4234-971F-419313B8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9D2-35E6-44EB-9F49-F8FF49B2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B01-53B4-4D97-9A00-EF2ED3F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783-7665-40B3-97D3-81944CF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921-E337-49E7-AD09-E96D511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F91-97DC-4FE3-A052-652B190C5A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7D82-E43C-4CCD-B0A8-AF831C250D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Walk in the Desert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 Amazing Wo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pe formed on land like hills, mountains, lakes, and des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43450000[1]"/>
          <p:cNvPicPr/>
          <p:nvPr/>
        </p:nvPicPr>
        <p:blipFill>
          <a:blip r:embed="rId1"/>
          <a:stretch/>
        </p:blipFill>
        <p:spPr>
          <a:xfrm>
            <a:off x="6324480" y="2895480"/>
            <a:ext cx="1841760" cy="12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Pj04340860000[1]"/>
          <p:cNvPicPr/>
          <p:nvPr/>
        </p:nvPicPr>
        <p:blipFill>
          <a:blip r:embed="rId2"/>
          <a:stretch/>
        </p:blipFill>
        <p:spPr>
          <a:xfrm>
            <a:off x="533520" y="2743200"/>
            <a:ext cx="2514600" cy="251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Blue hills"/>
          <p:cNvPicPr/>
          <p:nvPr/>
        </p:nvPicPr>
        <p:blipFill>
          <a:blip r:embed="rId3"/>
          <a:stretch/>
        </p:blipFill>
        <p:spPr>
          <a:xfrm>
            <a:off x="35053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kind of rain, snow, hail, or other form of water that comes down from the clouds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MCj02788500000[1]"/>
          <p:cNvPicPr/>
          <p:nvPr/>
        </p:nvPicPr>
        <p:blipFill>
          <a:blip r:embed="rId1"/>
          <a:stretch/>
        </p:blipFill>
        <p:spPr>
          <a:xfrm>
            <a:off x="4114800" y="3098880"/>
            <a:ext cx="312408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ll of sand in a des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MPj0424385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35816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f or an over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MCBD09077_0000[1]"/>
          <p:cNvPicPr/>
          <p:nvPr/>
        </p:nvPicPr>
        <p:blipFill>
          <a:blip r:embed="rId1"/>
          <a:stretch/>
        </p:blipFill>
        <p:spPr>
          <a:xfrm>
            <a:off x="3276720" y="2514600"/>
            <a:ext cx="437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v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f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ove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someone finds out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MMj02867660000[1]"/>
          <p:cNvPicPr/>
          <p:nvPr/>
        </p:nvPicPr>
        <p:blipFill>
          <a:blip r:embed="rId1"/>
          <a:stretch/>
        </p:blipFill>
        <p:spPr>
          <a:xfrm>
            <a:off x="3429000" y="2666880"/>
            <a:ext cx="2305080" cy="22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bid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dangerous and sc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Cj03315770000[1]"/>
          <p:cNvPicPr/>
          <p:nvPr/>
        </p:nvPicPr>
        <p:blipFill>
          <a:blip r:embed="rId1"/>
          <a:stretch/>
        </p:blipFill>
        <p:spPr>
          <a:xfrm>
            <a:off x="3691080" y="2530440"/>
            <a:ext cx="2100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ce without water or trees but with a lot of 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MPj04243860000[1]"/>
          <p:cNvPicPr/>
          <p:nvPr/>
        </p:nvPicPr>
        <p:blipFill>
          <a:blip r:embed="rId1"/>
          <a:stretch/>
        </p:blipFill>
        <p:spPr>
          <a:xfrm>
            <a:off x="4724280" y="2590920"/>
            <a:ext cx="27957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rough, unpleasant, and un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j0237922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554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weather a place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MCj03351920000[1]"/>
          <p:cNvPicPr/>
          <p:nvPr/>
        </p:nvPicPr>
        <p:blipFill>
          <a:blip r:embed="rId1"/>
          <a:stretch/>
        </p:blipFill>
        <p:spPr>
          <a:xfrm>
            <a:off x="2514600" y="2362320"/>
            <a:ext cx="42512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t with sharp parts but no leaves; most live in very hot, dry areas of North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Cj0413604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2819520" cy="27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Pj04224930000[1]"/>
          <p:cNvPicPr/>
          <p:nvPr/>
        </p:nvPicPr>
        <p:blipFill>
          <a:blip r:embed="rId2"/>
          <a:stretch/>
        </p:blipFill>
        <p:spPr>
          <a:xfrm>
            <a:off x="1600200" y="3200400"/>
            <a:ext cx="177948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animal that looks something like a wo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332306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88612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nd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d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bid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very, ver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MPj04022580000[1]"/>
          <p:cNvPicPr/>
          <p:nvPr/>
        </p:nvPicPr>
        <p:blipFill>
          <a:blip r:embed="rId1"/>
          <a:stretch/>
        </p:blipFill>
        <p:spPr>
          <a:xfrm>
            <a:off x="2666880" y="22860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6:54Z</dcterms:created>
  <dc:creator> </dc:creator>
  <dc:description/>
  <dc:language>en-US</dc:language>
  <cp:lastModifiedBy>Laura McDow</cp:lastModifiedBy>
  <dcterms:modified xsi:type="dcterms:W3CDTF">2010-07-29T09:17:23Z</dcterms:modified>
  <cp:revision>3</cp:revision>
  <dc:subject/>
  <dc:title>A Walk in the Desert Vocabulary and Amazing Words</dc:title>
</cp:coreProperties>
</file>